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C10-1E24-4AC7-B4F0-CE56725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E2F-5594-4B8D-9656-1747D1C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0A7-D230-4AAC-BABE-1E5FE0DC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616-F8A2-4970-A770-CC96B64B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673-9432-4D6A-88DE-A851A16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584-A769-4276-8A5E-05202829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396-9FEA-42CA-B59B-33961F68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8B4-C9D0-4EAE-9E5D-40575A2F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16A-A5CD-4935-AAD1-158F623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C15-4CC8-4DEB-BFC6-4BC7C00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632-49AD-436F-BE8C-7E4955C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6D9-7ACF-4B12-AC3B-AADFE6E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75AD-92FC-4186-8AC4-65B7EEDA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446480"/>
            <a:ext cx="9147240" cy="9698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3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, ден освет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правиш ме да съм блажен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онасяш ми ти свят покой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мир от Бога мо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6360" y="-1647360"/>
            <a:ext cx="8496000" cy="9600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Божи ден на радост, мир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и за душата свят си пир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ъди сега помежду нас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Своя Дух, о, Боже наш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486800"/>
            <a:ext cx="9144000" cy="9873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Господи, в тоз светъл д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да бъда аз благосл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чрез Твоя Дух възобнов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рай да празнувам аз Твоя ден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9:06:14Z</dcterms:created>
  <dc:creator>TrifonTrifonow</dc:creator>
  <dc:description/>
  <dc:language>en-US</dc:language>
  <cp:lastModifiedBy>TrifonTrifonow</cp:lastModifiedBy>
  <dcterms:modified xsi:type="dcterms:W3CDTF">2005-10-20T18:09:34Z</dcterms:modified>
  <cp:revision>7</cp:revision>
  <dc:subject/>
  <dc:title>Slide 1</dc:title>
</cp:coreProperties>
</file>